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C833-5691-45D5-8BCF-78CAB95D2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FDD3-9148-49F7-8E44-8801BF56F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69E5-474D-4912-9A39-BD82BF490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3AFF-EE8A-44F0-A222-D824EC9F98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815F-1886-434D-A83B-95DA59A68D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6178-6517-48EC-AB32-955A823B0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D04C-0A62-43F7-8C76-51F55447E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32DD-2A8E-4725-BEF5-BF4E613B1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B451-BC4D-4989-9A57-56A86345D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B3BC-84B8-43B8-A983-850241F4C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139B-614F-485D-AC50-D65A859AE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4AC8-E7DA-467E-A384-3D466C691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B9FF-70AE-4A8D-B3B5-7089068813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A97F-3664-4B27-AC49-3E20B9A424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need a pen and your mar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group will have the following materials prov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the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eneric Mathematical Processes Rubric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 (you will only receive the section related to your le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AT3.2Generalization Strategies and Justification Framework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AT3.3 Recording Shee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tables we will designate for Numbers 1, 2 and 3.  No more than 4 people in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it for the next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1A83-0733-454C-A37A-2C931CBC58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AEF9-EC91-4149-B7B5-B51544563E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Your Ta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will have the next 20 minutes (approximately) to look at the criteria for your lens using the resources we have provided to ensure that you have a common understanding as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your group’s common understanding of “Important Things to Consider/Look For” in the top box on the Recording Sheet.  Leave other boxes bl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6A77-4598-486F-B182-BFCFE8A62F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1CA8-034A-4FCC-9263-BD8D64028B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380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2 ~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ach group will receive the same set of 4 student samples which have been numbered for ident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ach person will start with one of the s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ing BLM AT3.3, </a:t>
            </a: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INDIVIDUALLY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record your feedback for that student using the criteria for your lens (see box at top of your page). Record in the appropriate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en you are done, turn the sample over to signal you are ready to pass the sample to the next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en everyone has their sample turned over, pass the samples ONE place to the 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258E-E000-4FF0-9B50-0AAAD89CC8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8D43-8454-4BC0-998C-603F31D0B6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3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arting with sample 1, do a Round Robin in your group, to share your feedb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me to CONSENSUS on 1 or 2 KEY pieces of feedback for that stud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cord with marker on the half piece of chart paper (be sure to put the student sample number on the chart paper along with the feed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peat for all 4 samples (approx 5 min per sam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ost chart paper beside samples on the wall when do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6EBE-982D-46D1-B59A-EA6BF31DBB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378B-F6A9-4F54-9863-62F744BFFE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4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e groups of 3 by taking one person from each Expert Group to form new Jigsaw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a Gallery Walk to look at each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Jigsaw group member will share the justification for feedback with the other group members, based on his/her l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09F4-1BD1-4791-B312-250691CD15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F62E-0C68-4508-82CE-A283978A56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focussing on a particular lens help you provide feedback?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E229-624B-450A-B3DD-3AEA74A062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A05F-B593-4744-9DB7-FFA4E2AEFE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you notice any overlaps in the feedback provided through the different len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7AB5-6445-4610-A01E-CD5913651D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A6AC-DF09-4F94-9E34-24376CCCB7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 you look at providing feedback any differently now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327E-9CCE-4EBB-897D-28338D6674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DCEB-9763-46CE-AB17-6B420026B8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questions/concerns do you still hav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your 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239F-DAD9-4ABB-9039-10FE337198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BE70-E2AE-4F60-8ABE-80D6E2BC07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87B7-CE95-4D6E-BF45-5091B07EB2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5540-F851-4BD5-A9E7-BF8684FD5D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ider the various criteria (lenses) through which we assess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derstand the importance of shared teacher/student understanding of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flect on personal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gnize that criteria are contex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responding by looking at student samples through a variety of l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19AD-4751-4A0C-B5E1-A6899F9E61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5679-820A-4C75-9A35-B3197D3848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20 minut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The Clapping 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1032-9411-4F43-91C1-7A0CB2A737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B1CB-42C0-4271-97E7-CABB13B3C7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Part 1 ~ 3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we looking for when we provide feedback to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/Applica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/Problem Sol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thematica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32C5-A6CA-472C-9E11-83B12FD89D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683D-E24F-4A90-A058-471F0D174A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practice providing feedback on samples of student work through the following lenses (Achievement Chart and Math Process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 and Application (Selecting Tools and Strategies, Conn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 (Representing, Communic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 (Reasoning and Proving, Problem Solving, Refl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C217-B82E-4F5F-8310-5E36B8CBF0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158A-F617-4AB4-A232-0013AD2D03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also consider the frameworks from Ruth Beatty and Cathy Br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Generaliz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E9F2-2676-4327-B8D4-BA643D86E3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0C3D-7393-42B1-9497-4124BA6830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roups of 4 – 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off 1,2,3 around th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1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Knowledge and Application (Selecting Tools and Strategies, Conn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C2EC-63D7-4014-82CC-FAAC524945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B9D5-4153-4FC6-8470-9333AF025E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2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Communication (Representing, Communica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E224-2272-4C02-8013-8A02F41C79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1191-9F6A-4B43-AEC1-A874CDFF13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3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Thinking (Reasoning and Proving, Problem Solving, Refl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1CB3-AE02-49C1-AE9B-CA1ABE24E7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BCA0-77D8-4EFD-A19B-F6B3572273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07T16:19:27Z</dcterms:modified>
  <cp:revision>33</cp:revision>
  <dc:subject/>
  <dc:title>&lt;Title&gt;</dc:title>
</cp:coreProperties>
</file>